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E41-233B-4326-B4B1-F028041B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ED0-DB1B-4053-936A-B214D791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E84-75D8-4496-B248-6DEB4199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736-51A5-4552-8063-D9D43C50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440-0BEF-41C1-AE11-0D57D653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D9E-E58B-47D9-8BB9-2024ABD4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33C-7B09-46E7-8789-A61644D2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890-8804-4F2B-8871-B72964CB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7B80-7900-4979-8048-D0D9914A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664-0D47-4863-9BCE-F863B612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988-9168-4826-A512-4B8D241F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F0B-5AEE-4733-B870-3CF8D9DD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0577-C861-40CF-BA84-3303FA9AB135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000000"/>
                </a:solidFill>
                <a:latin typeface="Calibri"/>
              </a:rPr>
              <a:t>An Introduction To Industr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gglomeration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concentration of different parts of the same industry in one area, which has many advantages including lowering transport costs and easing access to each p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rownfield sit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laimed industrial or residential land that is cleared and made available for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pital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money invested in companies to allow them to start produ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unication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 all-encompassing word for all transport methods as well as phone, fax and e-ma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otloose industry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 industry that is not tied to a location by its need for raw mater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eenfield sit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ural land, often just outside cities, that is cleared and used for industry, often Science and Business Pa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bour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workfor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Market: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Where the company will sell its product. The market for many large companies nowadays is the entire worl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Multi-national companies: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Large corporations, with their headquarters in a developed country, who have factories in countries all over the world. This gives them access to cheap labour, cheap land and the world marke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Trans-national companies: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See 'Multi-national companies'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2:50:16Z</dcterms:created>
  <dc:creator>Dell_02</dc:creator>
  <dc:description/>
  <dc:language>en-US</dc:language>
  <cp:lastModifiedBy>Dell_02</cp:lastModifiedBy>
  <dcterms:modified xsi:type="dcterms:W3CDTF">2011-01-27T02:53:16Z</dcterms:modified>
  <cp:revision>1</cp:revision>
  <dc:subject/>
  <dc:title>An Introduction To Industry</dc:title>
</cp:coreProperties>
</file>